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57CD-FCEE-4564-94ED-756C07A20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80EE-F978-4F82-B7D0-E3699D6D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A666-62CB-4586-96A6-716109A20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50A9-1AFD-4857-8E25-86813579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7101-4CCB-4967-BBEE-6AE33954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3FC6-F859-4CF8-B4CF-EEBA6714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91AA-7875-4F98-AB3D-ECD1C31B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F2B2-DDB4-476E-AB9E-64D031C3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1E16-C075-436E-878E-75EEB3AE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970F-6AFF-4B74-9D0E-B66BF103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9992-0454-4AB2-9506-533E979A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D700-2FCE-4EC1-BAEA-E3D07310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4BDE-9FCA-4C7A-9E16-1FF902E78B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2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9360" y="1295280"/>
            <a:ext cx="6086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Correcting fo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Non-differenti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Misclassificati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of Both Exposure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And Diseas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2666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7620120" cy="990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0" y="3886200"/>
            <a:ext cx="15238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914400" y="4267080"/>
            <a:ext cx="74674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7620120" cy="2210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7620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62012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14400" y="2619360"/>
            <a:ext cx="7620120" cy="809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14400" y="3505320"/>
            <a:ext cx="7620120" cy="30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2666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7620120" cy="762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38080" y="4038480"/>
            <a:ext cx="75438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696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6340320" cy="5486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010280" y="2438280"/>
            <a:ext cx="1295640" cy="2286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010280" y="457200"/>
            <a:ext cx="129564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10280" y="4648320"/>
            <a:ext cx="129564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620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9480" y="3809880"/>
            <a:ext cx="7620120" cy="1584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620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7620120" cy="2666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09480" y="3809880"/>
            <a:ext cx="762012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219320" y="4800600"/>
            <a:ext cx="65530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238880" cy="2587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2120" y="3352680"/>
            <a:ext cx="7238880" cy="2514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276720" y="4267080"/>
            <a:ext cx="28065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09480" y="3336840"/>
            <a:ext cx="7925040" cy="397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09480" y="685800"/>
            <a:ext cx="7925040" cy="2666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838080" y="4038480"/>
            <a:ext cx="76201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7925040" cy="3276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9480" y="4390920"/>
            <a:ext cx="792504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924680" cy="2286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62120" y="2562120"/>
            <a:ext cx="7924680" cy="714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838080" y="3505320"/>
            <a:ext cx="7772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925040" cy="3504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4419720"/>
            <a:ext cx="792504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925040" cy="2666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09480" y="3352680"/>
            <a:ext cx="7925040" cy="762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85800" y="4191120"/>
            <a:ext cx="7772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01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5029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5334120"/>
            <a:ext cx="82296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076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7925040" cy="2936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848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6201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4038480"/>
            <a:ext cx="7620120" cy="1371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14400" y="1066680"/>
            <a:ext cx="7620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2971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38080" y="3505320"/>
            <a:ext cx="762012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838080" y="4572000"/>
            <a:ext cx="7543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620120" cy="2971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14400" y="4191120"/>
            <a:ext cx="7620120" cy="990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934320" y="4952880"/>
            <a:ext cx="15238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10T15:11:11Z</dcterms:modified>
  <cp:revision>215</cp:revision>
  <dc:subject/>
  <dc:title>Slide 1</dc:title>
</cp:coreProperties>
</file>